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7E0-86CC-486C-8279-1B25D150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6D8-939D-4FBC-917B-814D1959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91A-1DB9-4BD1-A6E0-3670F893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AF9-0D99-4D94-8E29-70EDDED4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3CD-C55B-470C-AA52-D85C11A0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F96-0177-421D-B4EF-5F73F965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970-E778-4765-BC77-18A1E640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BC0-FDB5-4516-AE61-E3AD33A4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AD9-2882-4178-BBD1-633CC7C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D7C-7E28-442B-BD30-68D8DB9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727-C0F5-4812-A749-76643EFF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59B-71A8-40D7-B427-5989912D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775-FCD2-4060-B073-9D820CF50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omparing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it is like to live in these pla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L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7592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t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Otley Chevin: View over Otley"/>
          <p:cNvPicPr/>
          <p:nvPr/>
        </p:nvPicPr>
        <p:blipFill>
          <a:blip r:embed="rId1"/>
          <a:stretch/>
        </p:blipFill>
        <p:spPr>
          <a:xfrm>
            <a:off x="1692360" y="191628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616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7:28:01Z</dcterms:created>
  <dc:creator> </dc:creator>
  <dc:description/>
  <dc:language>en-US</dc:language>
  <cp:lastModifiedBy> </cp:lastModifiedBy>
  <dcterms:modified xsi:type="dcterms:W3CDTF">2006-04-23T17:28:07Z</dcterms:modified>
  <cp:revision>1</cp:revision>
  <dc:subject/>
  <dc:title>Comparing Places</dc:title>
</cp:coreProperties>
</file>